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96A-B633-4849-AC82-38863B0C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A00-F9B6-4B30-A297-29AD5FB3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03C-8186-4DF6-A693-BD483957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903-6E99-4BC9-A656-E9C1BA94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F1CD-2CB4-4686-A3EF-8E28616E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4EA-6466-43F7-B9DA-B06AB9CC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B19-8901-4657-B75A-61D73E7D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562-6990-4AB5-884C-36444318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D2AC-81D3-42C8-8E4A-00052592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398-9B6D-4AC5-83DC-3C76299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A98-D227-47DF-ABA1-5A807B2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0E4-5922-4712-8475-A49C07A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4D9D-6130-45A3-91C8-7082405DBCD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emlja kao vodi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te li primijetili da su tramvaji i električni vlakovi naizgled priključeni na samo jedan, nadzemni električni vo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čini drugi vod potreban za pokretanje njihova elektromoto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4"/>
          <a:stretch/>
        </p:blipFill>
        <p:spPr>
          <a:xfrm>
            <a:off x="4932360" y="1916280"/>
            <a:ext cx="37609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ko postupati s električnom strujo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Nađe li se čovječje tijelo u strujnom krugu, njime poteče struja koja može biti opasna za živo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a koja prolazi kroz tijelo ovisi o otporu kože na mjestu dodir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je koža suha, njezin je otpor velik pa nas štiti od strujnog uda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zbiva kada čovječjim tijelom prolazi stru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olaskom struje kroz čovječje tijelo nastaje grčenje mišića, a može nastupiti i zastoj rada srca i dis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822960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d gradske električne mreže koji je pod naponom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fazni vod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vod koji nije pod naponom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utralni v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 strujnog udara dolazi kad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različitim dijelovima tijela istovremeno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takne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fazni vod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neutralni vod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(uzemljenj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zemljenje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vod koji nas štiti od strujnog udara uslijed pojave kontaktnog napona na kućištima neispravnih uređa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19:57:54Z</dcterms:created>
  <dc:creator>Zdenko</dc:creator>
  <dc:description/>
  <dc:language>en-US</dc:language>
  <cp:lastModifiedBy>Zdenko</cp:lastModifiedBy>
  <dcterms:modified xsi:type="dcterms:W3CDTF">2014-07-18T09:24:48Z</dcterms:modified>
  <cp:revision>16</cp:revision>
  <dc:subject/>
  <dc:title>Zemlja kao vodič</dc:title>
</cp:coreProperties>
</file>